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62FA-3F60-42A1-9BE2-F280A4434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C4FA-89E4-4FBD-86A6-49247A0C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CCF2-5C09-43BF-A550-63F753410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9860-03D3-49DF-993B-0A86A02FB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B9A8-3152-4960-A8BB-C03BBE592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A2C9-433D-4F41-9710-6A7989F1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DA91-23B7-4056-821B-BF750CC4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76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FB8E-8D14-4934-902C-AB441C4A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54D3-5A47-4EA3-ABF6-966A6B4B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5D39-E01E-4E20-BD68-B639FC2B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776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55CF-7576-4172-B43E-24237767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7AF9-78BC-4282-81C3-36728F6C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76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776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A0BC-1ADA-4162-B4E4-0E234B5A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76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42C8-43F3-4B6D-9AFB-514C3D61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6CE0-2072-42CF-AD05-BE1F165F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76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776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034B-2588-4C02-A7E1-D4416AC42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44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0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44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0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4848-DA7D-445F-A0B1-9293652D3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6EE8-D291-4F74-8405-D9DA9C33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7152-9D80-4317-944D-9448837E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68B0-2224-4735-B106-E16CEFCF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8E24-54FB-4EA6-9E8A-9D92D3A1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2FD0-1FBA-4602-AB5F-25E2EED2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226E-CB86-4192-8426-C6048C04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33AF-1B68-429A-879D-6B319665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1000"/>
              </a:lnSpc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1" marL="733680" indent="-281160">
              <a:lnSpc>
                <a:spcPct val="101000"/>
              </a:lnSpc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2" marL="1131480" indent="-226080">
              <a:lnSpc>
                <a:spcPct val="101000"/>
              </a:lnSpc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3" marL="1584000" indent="-226080">
              <a:lnSpc>
                <a:spcPct val="101000"/>
              </a:lnSpc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4" marL="2036520" indent="-226080">
              <a:lnSpc>
                <a:spcPct val="101000"/>
              </a:lnSpc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5" marL="2036520" indent="-22608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6" marL="2036520" indent="-22608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095880"/>
            <a:ext cx="15987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040" y="60958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09588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8054E9-2F84-4744-8221-4B0F6CCB5936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77680" y="194940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240" y="6095880"/>
            <a:ext cx="15987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057040" y="60958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88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F0385-586A-4C52-B17E-224D90A82BB4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3" marL="1600200" indent="-228600">
              <a:lnSpc>
                <a:spcPct val="101000"/>
              </a:lnSpc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4" marL="2057400" indent="-228600">
              <a:lnSpc>
                <a:spcPct val="101000"/>
              </a:lnSpc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5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6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77680" y="1981080"/>
            <a:ext cx="7391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5400" spc="-1" strike="noStrike">
                <a:solidFill>
                  <a:srgbClr val="ff8000"/>
                </a:solidFill>
                <a:latin typeface="Comic Sans MS"/>
              </a:rPr>
              <a:t>Researching:</a:t>
            </a:r>
            <a:endParaRPr b="0" lang="en-US" sz="5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3600" spc="-1" strike="noStrike">
                <a:solidFill>
                  <a:srgbClr val="ff8000"/>
                </a:solidFill>
                <a:latin typeface="Comic Sans MS"/>
                <a:ea typeface="MS Pゴシック"/>
              </a:rPr>
              <a:t>The Big Six</a:t>
            </a:r>
            <a:endParaRPr b="0" lang="en-US" sz="36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8000"/>
                </a:solidFill>
                <a:latin typeface="Comic Sans MS"/>
              </a:rPr>
              <a:t>Step 1:</a:t>
            </a:r>
            <a:br>
              <a:rPr sz="4400"/>
            </a:br>
            <a:r>
              <a:rPr b="0" lang="en-GB" sz="4400" spc="-1" strike="noStrike">
                <a:solidFill>
                  <a:srgbClr val="ff8000"/>
                </a:solidFill>
                <a:latin typeface="Comic Sans MS"/>
              </a:rPr>
              <a:t>Be Sure You Understand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8000"/>
                </a:solidFill>
                <a:latin typeface="Comic Sans MS"/>
              </a:rPr>
              <a:t>Do you know what you are supposed to find out?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8000"/>
                </a:solidFill>
                <a:latin typeface="Comic Sans MS"/>
              </a:rPr>
              <a:t>Do you understand the problem, question, or assignment?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8000"/>
                </a:solidFill>
                <a:latin typeface="Comic Sans MS"/>
              </a:rPr>
              <a:t>What is your job?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8000"/>
                </a:solidFill>
                <a:latin typeface="Comic Sans MS"/>
              </a:rPr>
              <a:t>Step 2:</a:t>
            </a:r>
            <a:br>
              <a:rPr sz="4400"/>
            </a:br>
            <a:r>
              <a:rPr b="0" lang="en-GB" sz="4400" spc="-1" strike="noStrike">
                <a:solidFill>
                  <a:srgbClr val="ff8000"/>
                </a:solidFill>
                <a:latin typeface="Comic Sans MS"/>
              </a:rPr>
              <a:t>Identify Resources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8000"/>
                </a:solidFill>
                <a:latin typeface="Comic Sans MS"/>
              </a:rPr>
              <a:t>Encyclopedia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8000"/>
                </a:solidFill>
                <a:latin typeface="Comic Sans MS"/>
              </a:rPr>
              <a:t>CD-ROM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8000"/>
                </a:solidFill>
                <a:latin typeface="Comic Sans MS"/>
              </a:rPr>
              <a:t>Atlas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8000"/>
                </a:solidFill>
                <a:latin typeface="Comic Sans MS"/>
              </a:rPr>
              <a:t>Books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8000"/>
                </a:solidFill>
                <a:latin typeface="Comic Sans MS"/>
              </a:rPr>
              <a:t>Internet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8000"/>
                </a:solidFill>
                <a:latin typeface="Comic Sans MS"/>
              </a:rPr>
              <a:t>Databases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8000"/>
                </a:solidFill>
                <a:latin typeface="Comic Sans MS"/>
              </a:rPr>
              <a:t>Magazine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8000"/>
                </a:solidFill>
                <a:latin typeface="Comic Sans MS"/>
              </a:rPr>
              <a:t>Video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8000"/>
                </a:solidFill>
                <a:latin typeface="Comic Sans MS"/>
              </a:rPr>
              <a:t>Person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8000"/>
                </a:solidFill>
                <a:latin typeface="Comic Sans MS"/>
              </a:rPr>
              <a:t>Museum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8000"/>
                </a:solidFill>
                <a:latin typeface="Comic Sans MS"/>
              </a:rPr>
              <a:t>Other?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8000"/>
                </a:solidFill>
                <a:latin typeface="Comic Sans MS"/>
              </a:rPr>
              <a:t>Step 3:</a:t>
            </a:r>
            <a:br>
              <a:rPr sz="4400"/>
            </a:br>
            <a:r>
              <a:rPr b="0" lang="en-GB" sz="4400" spc="-1" strike="noStrike">
                <a:solidFill>
                  <a:srgbClr val="ff8000"/>
                </a:solidFill>
                <a:latin typeface="Comic Sans MS"/>
              </a:rPr>
              <a:t>Gather the Information!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8000"/>
                </a:solidFill>
                <a:latin typeface="Comic Sans MS"/>
              </a:rPr>
              <a:t>Distinguish between “trash and treasure.”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8000"/>
                </a:solidFill>
                <a:latin typeface="Comic Sans MS"/>
              </a:rPr>
              <a:t>List the exact location of the places you found helpful information.  Titles, authors, page numbers, web addresses, etc.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8000"/>
                </a:solidFill>
                <a:latin typeface="Comic Sans MS"/>
              </a:rPr>
              <a:t>Step 4:</a:t>
            </a:r>
            <a:br>
              <a:rPr sz="4400"/>
            </a:br>
            <a:r>
              <a:rPr b="0" lang="en-GB" sz="4400" spc="-1" strike="noStrike">
                <a:solidFill>
                  <a:srgbClr val="ff8000"/>
                </a:solidFill>
                <a:latin typeface="Comic Sans MS"/>
              </a:rPr>
              <a:t>Sort it Out!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8000"/>
                </a:solidFill>
                <a:latin typeface="Comic Sans MS"/>
              </a:rPr>
              <a:t>Did you answer your questions?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8000"/>
                </a:solidFill>
                <a:latin typeface="Comic Sans MS"/>
              </a:rPr>
              <a:t>Organize your information!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8000"/>
                </a:solidFill>
                <a:latin typeface="Comic Sans MS"/>
              </a:rPr>
              <a:t>Check to make sure this is the information you need.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8000"/>
                </a:solidFill>
                <a:latin typeface="Comic Sans MS"/>
              </a:rPr>
              <a:t>Step 5:</a:t>
            </a:r>
            <a:br>
              <a:rPr sz="4400"/>
            </a:br>
            <a:r>
              <a:rPr b="0" lang="en-GB" sz="4400" spc="-1" strike="noStrike">
                <a:solidFill>
                  <a:srgbClr val="ff8000"/>
                </a:solidFill>
                <a:latin typeface="Comic Sans MS"/>
              </a:rPr>
              <a:t>Integrate the Information!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8000"/>
                </a:solidFill>
                <a:latin typeface="Comic Sans MS"/>
              </a:rPr>
              <a:t>Where does the information fit into your product?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8000"/>
                </a:solidFill>
                <a:latin typeface="Comic Sans MS"/>
              </a:rPr>
              <a:t>What knowledge did you already have that you can incorporate with what you learned?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8000"/>
                </a:solidFill>
                <a:latin typeface="Comic Sans MS"/>
              </a:rPr>
              <a:t>Cite sources, always!!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8000"/>
                </a:solidFill>
                <a:latin typeface="Comic Sans MS"/>
              </a:rPr>
              <a:t>Step 6: Examine it!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8000"/>
                </a:solidFill>
                <a:latin typeface="Comic Sans MS"/>
              </a:rPr>
              <a:t>Take a look at your final product.  Are you done?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8000"/>
                </a:solidFill>
                <a:latin typeface="Comic Sans MS"/>
              </a:rPr>
              <a:t>What other information would be helpful to make the final product better?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agonwheel School</dc:creator>
  <dc:description/>
  <dc:language>en-US</dc:language>
  <cp:lastModifiedBy>Wagonwheel School</cp:lastModifiedBy>
  <cp:revision>0</cp:revision>
  <dc:subject/>
  <dc:title>Researching:</dc:title>
</cp:coreProperties>
</file>